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FF64-87FA-484D-80CF-B162B3A02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9D56-86EA-4AC0-842E-81CAAB54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D46C20-4330-45C2-8034-9C673F79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4924FE-0D5C-44CF-B53B-19E66BF0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FBBF2D-7405-41DC-BAB4-B5EBB0D4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ECFA51-2EA4-4712-9FF5-13E24F92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6E925A-BECE-43EB-9156-6D97678F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BA9CA3-CD81-4695-9521-508428C5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8F6378-4D35-4D8B-AFA8-B618ACE8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D513DB-B70B-4BBE-B7D9-23B4E262D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04160D-3B7C-4820-9F62-CC8BC8CC0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CA65-85F5-4DCE-AE7D-F11EC4EED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0678-3B14-427B-8106-242204FE9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1A740-75A8-4C0A-8E42-FF21FF25E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D787EB-00AE-426D-A34F-0D3A09A0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829B33-5684-4D82-8BF1-1F66D165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4DE35-D8BA-401E-98E4-C7E718EB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39987-13B2-41FB-B2A3-358EB665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6F7CC-42E7-40DC-B145-14FD9769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C97B7-A37C-406F-9561-7F7133FA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7159-67F9-4BE4-BB87-E246216F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0569A7-87EA-444F-9721-DFD920AD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8CD699-A90E-4E34-B43B-DBB8903C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EC5ECA-8E72-41D2-98C0-905526B2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CDF0A1-9FA1-4CB4-A8A9-DA7D774D4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D4CB0-A83B-49C3-82FF-E61FADA59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94117-CDF2-4A62-8AA2-B4FA4F957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F9E97-922E-4D25-9580-50DB5FD8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CA09B-63BF-4211-ABB6-E9910944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86104-A655-42F9-98B0-79294E05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653CA-0243-47B0-87A6-859FF666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21ED-7EE2-4697-BA39-97F442DA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F30DB-F380-4C22-B58E-237195E9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45AE7-21DA-4004-8E21-85E0AC51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2CC3D-5C78-4E06-85DC-C07EDA8A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5C39C-7E32-40B6-8ED4-80EA6802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D5A39-39B0-4820-B709-8863577C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C329F-5D33-4303-94E2-FDD9AE3B8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FADEE-64EA-4E75-8008-66CF7893D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643D57-85AE-42CC-A126-4A6CED611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A39368-94EF-4C4F-9057-E49FF17F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E626BC-9C64-4A29-AFA8-BC31C5F1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1D4B-68A4-4F9E-9446-B87DED5F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731052-435C-4ED2-877D-9A1CDBB4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FBB0DF-F796-4480-8C67-507DAC3F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14AED5-DF76-44D2-B257-3007E67A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8FD386-9803-4BF7-B63A-FC8FFDD7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F48B14-264B-4761-A192-7E1F893D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1D05AE-9D8B-4A3F-A454-0247A466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BED626-B804-4CEB-8F1E-554A0C6E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0D2421-7D06-4149-B851-8EC4CECD0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EEF24C-BAE5-47A5-98D0-79FE354BF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7860B-BE66-46FC-9CE2-DED7E9C2E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1793-FC66-4BD6-855A-0828652B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91640-AFA7-4339-9DB4-E9024BFB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7F514-8F89-48EF-A991-60E7C662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0C385-93AA-4BDA-9128-9D49B256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BB0FB-F083-4DB6-8481-2B502EFB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4A632-5EAF-42F4-AF13-4AEEDE3C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C351F-CE42-4AA4-976E-6881F9C1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D055E-8A07-41DF-8F81-F1C2CC4A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5F8F6-F45C-45E1-B676-C51E6DEC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98D09-2EA9-4FF7-9D52-21679D0D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21BFF-9719-4F85-B394-C25185578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DEB8-06B8-4B30-9EB7-7E5EB60D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5354D-7E5C-42AC-8693-C4D41321E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6A607-7C94-4328-B146-A91459F58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62A4E-AF52-4537-BDA2-81990EB9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38E99-128D-489C-81D6-1F040A15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6163F-F73E-436E-A516-47DD8279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A417A-838B-4FB2-82E6-46271E3A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0676B-45F3-4F07-8DC0-E386120F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04523-D760-4890-A90C-179973F2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3C695-59F2-4349-975A-AD2ECAB9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5DD75-FA0C-4BDE-8F08-21EF094C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A89A-4C10-4C19-9B33-64CB73E0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560F7-2917-41F8-B9AB-A4ECE871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76E1D-15A2-4102-901F-6EAB0B6BC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8D604-0879-4F8C-A5F3-88A4839F1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5C95A-7347-43F4-B048-8782E4EEF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2D15A-708F-49E7-8796-27A0C885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40E42-47E0-48BF-B73F-C61CEEE5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30CA4-77AF-4FC0-8DA0-D93FDF36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687F8-4588-499B-BB65-71F791F1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E2F6D-8D54-451D-AA12-0908FBFC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20120-20AF-4705-A05C-E5ACDBE1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8189-BAA8-45CC-B558-B04D754D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7BF17-9F57-47FD-B5F6-C1603789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69B37-F207-4124-8EC1-C73AE658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E8675-80D4-4830-9A11-C9992396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418DB-5410-40F0-B000-EFE4C935A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FAB81-7CBE-4983-8A25-59ED22852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7098DB-C159-453D-9E64-B4FF014D1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DC6AD3-3AC1-4BC7-BD65-FCAB4740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FA3D62-E21B-4719-9C28-51E09A1A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9C3E45-1292-4B8A-9730-9FE78EF1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F50E2D-1589-42D3-AFE2-08D5CBB3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CF67-89FA-44BC-8065-A13312E9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918513-70BF-45DA-9C54-EB99ED0B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B9A0F7-6147-4621-957F-0086E89B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4FAA34-242E-449F-8B59-CB99E922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0F4CC1-B30F-4983-8986-8465EC56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480B14-76F2-4F19-AB54-7C56E6B9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DFF6E1-C3B3-45A5-9F53-4A04DF94E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B8A7DD-4629-41EC-A1C7-A37B0A843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01B0E1-B880-4764-A3E9-752399C23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0263F2-1F66-4F86-ABB1-4993A28B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AE2991-1AE8-4A4F-B14B-3503DA7D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0b0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0b0b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9C8C-FF75-4553-AE8F-D7EA27788A03}" type="slidenum">
              <a:rPr b="0" lang="en-US" sz="1600" spc="-1" strike="noStrike">
                <a:solidFill>
                  <a:srgbClr val="d3dee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e5ec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e5ec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0b0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0b0b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F5F1-F5E9-4DD8-B252-50F59D4BD174}" type="slidenum">
              <a:rPr b="0" lang="en-US" sz="1600" spc="-1" strike="noStrike">
                <a:solidFill>
                  <a:srgbClr val="d3dee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7ca3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e5ec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0b0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0b0b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80A0-F595-41E7-9FD1-5A3081DBF26F}" type="slidenum">
              <a:rPr b="0" lang="en-US" sz="1600" spc="-1" strike="noStrike">
                <a:solidFill>
                  <a:srgbClr val="d3dee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7ca3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e5ec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0b0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0b0b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37F4-FC5D-4915-92A4-4432BFAD0591}" type="slidenum">
              <a:rPr b="0" lang="en-US" sz="1600" spc="-1" strike="noStrike">
                <a:solidFill>
                  <a:srgbClr val="d3dee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7ca3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e5ec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0b0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0b0b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AEA8-1386-489C-B852-8B71F8570E53}" type="slidenum">
              <a:rPr b="0" lang="en-US" sz="1600" spc="-1" strike="noStrike">
                <a:solidFill>
                  <a:srgbClr val="d3dee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7ca3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7ca3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e5ec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0b0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0b0b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2B83-A6EB-4BCE-A5B9-F212A9275F7B}" type="slidenum">
              <a:rPr b="0" lang="en-US" sz="1600" spc="-1" strike="noStrike">
                <a:solidFill>
                  <a:srgbClr val="d3dee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7ca3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e5ec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0b0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0b0b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AFB8-27A0-4C19-BE49-53DF7FAA0A85}" type="slidenum">
              <a:rPr b="0" lang="en-US" sz="1600" spc="-1" strike="noStrike">
                <a:solidFill>
                  <a:srgbClr val="d3dee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7ca3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e5ec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0b0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0b0b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CEFD-4F72-4E67-9476-7B7C7584662E}" type="slidenum">
              <a:rPr b="0" lang="en-US" sz="1600" spc="-1" strike="noStrike">
                <a:solidFill>
                  <a:srgbClr val="d3dee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e5ec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0b0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0b0b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6421-18A8-4BCB-88D7-FA8404768B04}" type="slidenum">
              <a:rPr b="0" lang="en-US" sz="1600" spc="-1" strike="noStrike">
                <a:solidFill>
                  <a:srgbClr val="d3dee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066-1485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 system of ideals and social codes governing the behavior of knights and gentlewom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cluded taking an oath of loyalty to an overlord and observing certain rules of warfare, such as never attacking an unarmed opponen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anguage – French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285840" y="249120"/>
            <a:ext cx="8705880" cy="11653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Primary duty of males above serf class was military service to their lords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Page – young boys (around age 7) were sent to the home of a lord to begin training.  They were trained in other homes to ensure the training was strict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Taught to read, write, sing, dance, play the harp, play chess, and rules of good manners by the ladies and the clergymen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Taught to ride, wrestle, joust, and use a sword by squires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5331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quire – around age 14; personal servant to a knigh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Helped the knight dress, served meals, made his bed, carried armor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ourtly love – the idea that adoring a lady would make a knight braver and nobler; in its ideal form, courtly love is nonsexua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A knight might wear his lady’s colors in battle, glorify her in words, be inspired by her, but she was always pure and remained out of reach.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456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Knight – around age 21; huge ceremony; he held an all-night vigil in full armor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ccolade – 3 strokes with the flat side of a sword (“dubbed”); originally a hard blow meant to test the courage of the person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Largess – gifts given to the knight from his patron knight and gifts from the new knight to his companions and inferior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itle of “Sir”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Duty of a knight – service to God, his lord, and his lad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Title 1" descr=""/>
          <p:cNvPicPr/>
          <p:nvPr/>
        </p:nvPicPr>
        <p:blipFill>
          <a:blip r:embed="rId1"/>
          <a:stretch/>
        </p:blipFill>
        <p:spPr>
          <a:xfrm>
            <a:off x="420840" y="249120"/>
            <a:ext cx="8570880" cy="11653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dvantages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Made for refinement in a rough ag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ncouraged loyalty and courag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xalted the position of women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isadvantages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ook no account of the common peopl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ook some virtues to absurd length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Joust – 2 knights ride at each other with lances; if either is unhorsed, they continue to fight on foot with swords (think of this as maybe a wrestling match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ourney proper – several knights on horseback with swords until one party was defeated or the herald stopped the contest (think of this as a football game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st – oval enclosure surrounded by two rows of seats (think of this as a stadium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avilion – located at each end of the list for the opposing knights (think of this as the locker room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eralds – presided over tournaments and enforced  rules (think of this as the referee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rmor in the early Middle Ages consisted of a helmet, a shield, and a mail shirt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s weapons became more deadly, the need for more protection of heavier armor led to compromised flexibility and mobility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457200" y="5331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80080" indent="-28008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Armor was held together by rivets, leather straps, hinges, turning pins, buckles, and pegs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A heavily padded undergarment of leather and a mail shirt were worn under the armor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Plate arm, leg, and foot pieces were also worn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Some suits weighed 120 pounds and had 200 custom-fitted iron plates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The knight also carried a dagger, a lance, a sword, a battle-ax, and a club-headed mace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609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 addition to the threat of battle, the armor itself could be fatal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Knights could die from suffocation, heart failure, heat stroke, even drowning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Knights were unable to dress themselve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attles were scheduled to give the knights time to dress. 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rvants stood nearby in order to help knights who had been unhorsed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October 1066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ay-long battle near Hastings, England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illiam, Duke of Normandy, defeated King Harold of England, the last Saxon king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eginning of the Norman Conques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milar to today’s union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anguage -- English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erchant Guild – organized to include all those who sold good in the tow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Main purpose – monopolize the trade of its particular cit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rafts Guild – organization of artisans of various trade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Main purpose – securing competent workmen and honest product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5331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evels of Craftsmen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pprentice – lived with a master craftsman for 7 years; received no pay, but he was instructed in the art by the master craftsman; supplied with all his necessities; morals guarded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Journeyman – if apprentice lacked money to become a master, he could continue to live and work with the master; did receive pa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ll land except that which was farmed for the lord was treated as one big farm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etermined to a large extent the life of the peasantry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anguage – English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church concerned itself with almost every act of every man, regardless of rank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anguage – Lati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illegitimate son of the previous duke of Normandy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ousin to Edward the Confessor (the king before Harold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dward died childless early in 1066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arold of Wessex was crowned the following day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illiam claimed that the King Edward had promised him the throne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illiam gathered a huge army and sailed across the English Channel to seize what he felt was rightfully hi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456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illiam did not want to conquer the Anglo-Saxons; he just wanted to rule them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ecause of that, we have a culture and a language that is a combination of Norman and Anglo-Saxon element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Anglo-Saxons provided more democratic and artistic element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Normans provided administrative ability, emphasis on law and order, and cultural unity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5331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One of William’s greatest feats was the Domesday Book – an inventory of nearly every piece of property in England—land, cattle, and building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r the first time, people in Europe were taxed on what they owned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survey helped to solidify the feudal system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eudalism is a social hierarchy that was recognized for centurie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t was a social system, a caste system, a property system, and a military system.  (A caste system is a system based on birth or wealth.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ased on a religious concept of rank with God as the supreme overlord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Content Placeholder 3" descr=""/>
          <p:cNvPicPr/>
          <p:nvPr/>
        </p:nvPicPr>
        <p:blipFill>
          <a:blip r:embed="rId1"/>
          <a:stretch/>
        </p:blipFill>
        <p:spPr>
          <a:xfrm>
            <a:off x="433440" y="512640"/>
            <a:ext cx="827712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5331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y requiring that nobles swear loyalty to him, William was establishing the principle of centralized government in England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feudal system did not always work.  Occasionally, a vassal might choose not to honor his obligations, and battles between iron-clad knights would break out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6:02:53Z</dcterms:created>
  <dc:creator>pcoles</dc:creator>
  <dc:description/>
  <dc:language>en-US</dc:language>
  <cp:lastModifiedBy>pcoles</cp:lastModifiedBy>
  <dcterms:modified xsi:type="dcterms:W3CDTF">2009-01-25T15:59:43Z</dcterms:modified>
  <cp:revision>10</cp:revision>
  <dc:subject/>
  <dc:title>The Middle Ages</dc:title>
</cp:coreProperties>
</file>